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95EF-B09F-43AF-A9CA-1433CDCC9A79}"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3EE6-14C5-44F8-920D-709061B01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9A33-F2EE-42BB-AD95-E08896C53D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75116-3556-4B1A-9518-FB301139F3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1943-06F7-44DB-BB84-2643FE22BE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791628D-F63B-4689-A39B-8D80697A1C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F9CB-0218-44F0-B610-D02CA402EE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D815-7390-40DB-B22B-D80405711F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2908-5FD9-4EF1-AEAD-5726594FF5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C70D-BFE6-4F2A-AA12-D1509500B5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611AF-AEA2-4730-8D86-BE6231465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AF3B6-C63F-434B-88F8-8822A09E7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386C4-19DA-4804-9668-33ABB302E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A126F-37A6-45E0-8CF5-986F6A6C0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73123-8118-4782-85C3-E954C2009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25501-FDB3-45A1-94EA-78C63CFCD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557E1-17CD-4250-97D6-74528EFAC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A8BC9-D8B4-4D12-8FC1-8427E6643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7F146-C996-45E8-BF39-34F584C05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6F92F-9717-4D8F-BDDD-B734D3B79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EF5D0-408D-45B0-99C1-2A602BEC6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74B4E-FBDC-4068-A51C-96982AF84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65871-AC02-4C5D-99FF-C56B3D693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EA9DC-3543-441E-8C5B-5CD4F6EDC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F851C-01C6-4D0B-868E-AECDD2108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5234D-A693-4A9D-AE21-E8DE2A60F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8B6805-073F-4AEA-ADF7-F77B9E74B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0C6AA-8DCE-4349-B336-F1F530522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7C6DD-62FD-43C0-A084-EDC938FF7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6B83E-1383-4FBE-BDF4-3DE36A388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8D118-EAA7-4014-B268-4F81F05BE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513C4-F66B-4570-94AB-AFD5EF740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16066-32C7-47A5-955B-77C51AB35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A3B77-12FE-4713-8F42-BF9C22BC3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5AD9-97D6-431E-94D6-354F96286D0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6B6C-0D94-446A-A89C-0273646275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B7A6-17EA-4C5C-82BF-0BF0B445F60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371F-6AD4-4935-9A83-F8D606C060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6D75-1AC8-4F8A-B5C8-43BDCCA788E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7328-A66E-4A37-B1FE-0CFD6EF5FAB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Ethiopian Highlands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30,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BEDC-C084-4B03-8C91-AF979B7207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Ethiopian Highland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Addis Ababa, 30 January-2 Febr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78F5-DF21-4D1E-9582-D2883734BB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1-30T11:02:34Z</dcterms:modified>
  <cp:revision>241</cp:revision>
  <dc:subject/>
  <dc:title>PowerPoint Presentation</dc:title>
</cp:coreProperties>
</file>